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DB7-C0D7-4098-8DB4-133A715D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C3CF-7EDD-4C58-8039-AB26612A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032-CC15-46CA-B951-AF9BD721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5C28-F330-4CB0-BFEA-D1557805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B11D-6B1A-4ABB-AF78-F4099265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1566-4894-42F4-ABE2-E22F26F7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CDE6-DDA4-48B8-A721-059C5C9E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77EF-41F9-4CC6-B164-132BBD3F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5E23-28FB-4BD2-8760-E4E9372C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22D1-C4BE-401F-9076-7F533D46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5BB0-7BF6-4998-B11E-6CBF1361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132B-C8B2-4EE1-B76D-BAC3D25D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7A20-C4AA-4DED-88F2-C8BC7CB1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DA7F-3ABB-4B18-9322-9AB07FEB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AC9F-FEBC-458D-A2DE-426EC229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2386-5CBE-445F-AE7D-26A505D3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0170-8838-4384-91D0-6C7F6580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88107-4964-495A-A95D-0F3AF7C5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BAAAF-E9B1-4052-904D-5AD6DA47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81456-C5DB-4F3D-B23D-2ABD62EF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F3122-08BA-452D-84DA-8A6FC2FF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7C245-54B4-4556-8C1E-D7A6B332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AA9-B114-469D-A270-8AF3D85D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8430A-E00D-4659-BC8E-5111AF70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08FFE-EEF6-4BD7-8710-20E22D60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4BFBB-632C-41E0-9143-2071F2D8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095DF-42EE-48E0-B077-F676248D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567CB-B1E5-451E-9230-388A7346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5722A-25AB-49D3-9449-C85C56E0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FD4CF-A68E-41FB-B87E-75B1625C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2E21F-148A-48A4-8AE2-F0485045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D4324-B1F1-4CFC-A0B9-177D8457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F57D9-C6FD-46C2-AC44-2B392157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9A9C-8ABD-40D1-BCFC-795B74DF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369E1-6507-48D8-B295-76A1B3EC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B2225-2B4A-4221-B574-3A8065AA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054B6-79C6-4392-882C-05A72351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60885-F165-40D2-B391-703F3DEC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759EF-42AD-4A1D-BF1A-34733542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CB3D1-903B-4E1B-B334-6152AE1B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28413-5792-44A7-ACFD-BA762022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00C68-0044-4C24-907E-747B02CA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0EB57-8B56-474D-A472-D64BB2A8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7EB-36F2-4BE4-BB7D-A5075272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BE8-EF75-4022-9CB8-CD811AAC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BA0-5A7B-4A3F-8EE5-CFC6DEF9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2D31-9D93-4FF6-AD68-C2D00008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E3A9-05CF-44CB-87F9-6CEDC992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4662-5C79-4489-9EFA-E2F3265D484E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2F4F-5EB8-432D-AEF5-F8FC2AC6D1BA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32CF-580F-4212-B00A-4D21024F9A46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69FC-4233-4CA6-BA19-0F00E15EB16A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ch Pack In Action : Analyze  a  Scenari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Susan Marshall,  Holly Matthews, Tracy Robart, Terra Saulnier, and Cindy Smith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cenari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s. Anderson has been teaching Science for 10 years.  She was recently introduced to web-based programs that allow her to teach numerous science units using real world and real time content.  Although she is excited about using the web-based programs, her use of technology in the classroom is limited to using concept mapping on her own computer.  Ms. Anderson has been reading a great deal on the program’s website, but has not found any strategies to use it in her classroom.  At a recent professional development, her colleague showcased  how she had been using the various web- based programs, but Ms. Anderson is still very unsure about how best to use these activit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914400" y="1116000"/>
          <a:ext cx="6858000" cy="5051520"/>
        </p:xfrm>
        <a:graphic>
          <a:graphicData uri="http://schemas.openxmlformats.org/drawingml/2006/table">
            <a:tbl>
              <a:tblPr/>
              <a:tblGrid>
                <a:gridCol w="1955880"/>
                <a:gridCol w="1955880"/>
                <a:gridCol w="2946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ech Pack Componen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hat is Know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hat must be learn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4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chn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cept mapping on her own comp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he was exposed to various web-based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 She needs to practice using web-based program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 She needs to learn how to teach her students to properly use web-based program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9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dag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 she has not found any strategies to use in her classroo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 Needs support from her colleague in order to successfully implement web-based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1523880" y="1397160"/>
          <a:ext cx="6858000" cy="2641320"/>
        </p:xfrm>
        <a:graphic>
          <a:graphicData uri="http://schemas.openxmlformats.org/drawingml/2006/table">
            <a:tbl>
              <a:tblPr/>
              <a:tblGrid>
                <a:gridCol w="1955880"/>
                <a:gridCol w="1955880"/>
                <a:gridCol w="2946240"/>
              </a:tblGrid>
              <a:tr h="26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- She knows the Science curriculum 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- The Teacher and the students to be competent in implementing these programs in their science uni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ome contextual issues Ms. Anderson must address to implement this new strategy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aching the students to the properly use a web-based progra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aching the students the purpose for using these web-based progra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make sure the project doesn’t become an “information locating” exercise, it should call for higher level tasks after the students find the inform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ocus should be on curriculum not necessarily the web-based activit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ome logistical issues Ms. Anderson must address to implement this new strategy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s. Anderson must make sure her class has access to the computer la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have access to internet on all computers and a back up plan should be available if this is not work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vailability of her colleague for support if issues ari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upings of her students- how will they complete the activiti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4:48:20Z</dcterms:created>
  <dc:creator>susan marshall</dc:creator>
  <dc:description/>
  <dc:language>en-US</dc:language>
  <cp:lastModifiedBy>Mike</cp:lastModifiedBy>
  <dcterms:modified xsi:type="dcterms:W3CDTF">2012-07-23T22:44:00Z</dcterms:modified>
  <cp:revision>12</cp:revision>
  <dc:subject/>
  <dc:title>Chapter 6 Activity 4</dc:title>
</cp:coreProperties>
</file>